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87999-D272-4826-B81E-7DA0D476D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🔹 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ustrasi: Anggota gereja tua yang pernah aktif berhenti menghadiri gereja, mengelak daripada bertentang mata dan kelihatan takut apabila ditanya tentang penjaga mere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4A9F03-7009-4D1C-B310-5FC322753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F17CF-30E6-4B7E-9981-5290E670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D9C050-EE50-4B7E-86DF-38606ED9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ustrasi: 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Gereja mewujudkan “Pasukan Penjagaan Kanan” yang memeriksa anggota gereja tua setiap mingg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280E40-F533-4F71-B67A-66486E770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BF9C84-73CF-4E07-86F9-5D1D19C1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B780C2-BB82-45CB-B6DB-1BA0AE90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llustration: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 An elderly church member is financially manipulated by a caregiver and slowly becomes withdrawn from church life.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595776-1DF7-419A-B900-FF612C8F8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76663F-8D1C-4119-A67A-B7F87577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362-8A6F-4C4F-A6CC-AEAD4CC3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09B-7A43-4122-9258-5872106F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8B4-D282-4DC4-9181-18F164FD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7BE-936B-4D6A-9F11-D1525B8B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F585-EE57-40D3-9BC4-981D94E3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FC09-8104-4440-B344-C19ABE0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A203-3216-46BE-BD20-CF71C4C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F8A-0CBA-46C2-9EE1-D6A0A32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950-7AA5-48DE-92CF-5D183F6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14F5-F773-4C46-BF74-99E13E01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226-B001-49B8-BA84-A1281E8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DF4-E10A-48A8-8068-9C518F5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3073-CBFB-4DB6-850E-D3CDD43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ECE3-D1F2-4F4F-8717-601648C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C558-6051-48CB-9276-C87F716A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34D8-8CF6-49F3-876B-989C07C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AB3-B7E5-422A-81D5-A99E178D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3E9-EE5A-48D4-92D8-6101D541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841-63E6-4039-B619-B0E6AEA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17E-CFC5-4613-AABF-7ED97257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079-07FB-45FF-8671-81CF891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CBF-F208-4DB3-845B-BF12468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136-BF3C-4C88-892D-9EE69BD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386-4555-45A7-805E-F7B9A45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pt-BR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E00A6-9D33-4ECA-A561-CE872D4E1B72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99A8BC-C500-4CAD-B4B3-5C3A21A3DD7E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79440" y="2048040"/>
            <a:ext cx="4549320" cy="3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asis MT Pro Light"/>
              </a:rPr>
              <a:t>Bagaimana Gereja B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79440" y="3880080"/>
            <a:ext cx="3730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a726"/>
                </a:solidFill>
                <a:latin typeface="Microsoft GothicNeo Light"/>
                <a:ea typeface="Microsoft GothicNeo Light"/>
              </a:rPr>
              <a:t>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24880" y="6211800"/>
            <a:ext cx="384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Disediakan oleh Raquel Ar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79440" y="2436120"/>
            <a:ext cx="389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a726"/>
                </a:solidFill>
                <a:latin typeface="Microsoft GothicNeo Light"/>
                <a:ea typeface="Microsoft GothicNeo Light"/>
              </a:rPr>
              <a:t>MENJAGA DAN MELIND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Calibri Light"/>
              </a:rPr>
              <a:t>III. </a:t>
            </a:r>
            <a:r>
              <a:rPr b="1" lang="en-US" sz="3200" spc="-1" strike="noStrike">
                <a:solidFill>
                  <a:srgbClr val="f2f2f2"/>
                </a:solidFill>
                <a:latin typeface="Calibri Light"/>
              </a:rPr>
              <a:t>Mengenali Tanda-Tanda</a:t>
            </a:r>
            <a:br>
              <a:rPr sz="3200"/>
            </a:br>
            <a:r>
              <a:rPr b="1" lang="en-US" sz="3200" spc="-1" strike="noStrike">
                <a:solidFill>
                  <a:srgbClr val="f2f2f2"/>
                </a:solidFill>
                <a:latin typeface="Calibri Light"/>
              </a:rPr>
              <a:t>     Penderaan Warga Emas </a:t>
            </a:r>
            <a:br>
              <a:rPr sz="3200"/>
            </a:b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anda Amaran Penderaa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cederaan yang tidak dapat dijelask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lebam, melecur, patah tulang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rubahan tingkah laku yang mendadak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penarikan diri, kemurungan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akut kepada penjaga atau ahli keluarga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il tidak dibayar, wang hilang, kesusahan kewangan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bersihan yang buruk, kekurangan zat makanan, kudis katil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pengabaian)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rnahkah anda melihat tanda-tanda penderaan orang tua dalam komuniti anda?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pakah tindakan anda?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V. Apakah yang boleh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 dilakukan oleh Gereja?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Jadilah Komuniti Berwaspad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Latih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astor, ketua gereja, diakon dan anggota gereja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mengenali dan melaporkan pendera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Lawati anggota gereja yang lebih tua deng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rap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(rumah, rumah penjagaan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Galakkan orang tua untuk mempunyai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rakan kongsi bertanggungjawab yang boleh dipercayai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(rohani dan kewangan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. Wujudkan Persekitaran Gereja yang Selamat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rogram Pelayanan Orang Tua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umpulan sokongan, lawatan rumah, aktiviti sosial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ngkel Kesedaran Kewangan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Didik orang tua tentang komplot dan penipu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layanan Doa dan Kaunseling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Tawarkan penjagaan rohani dan emosi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. Membela dan Campur Tangan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kerjasama deng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ihak berkuasa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empatan untuk melaporkan penderaan apabila perlu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ediakan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antuan kecemasan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 (makanan, tempat tinggal, bantuan rasmi)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Tawarkan 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jagaan selingan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penjaga yang terbeban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pakah langkah praktikal yang boleh diambil oleh gereja anda untuk melindungi anggota gereja tua?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V. Mengambil Tindakan: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Komitmen untuk Melindungi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ktiviti Kumpulan: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etiap peserta menulis </a:t>
            </a: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atu tindak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yang boleh mereka lakukan untuk membantu mencegah penderaan orang tua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incangkan cara gereja boleh melaksanakan </a:t>
            </a: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layanan Perlindungan Orang Tua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VI. Doa Penutup dan Galakan </a:t>
            </a:r>
            <a:br>
              <a:rPr sz="40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51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Jadilah Komuniti Berwaspad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Ayat Akhir: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 Amsal 31:8, 9—“Bukalah mulutmu demi mempertahankan orang bisu” (AVB)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erdoa untuk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kebijaksanaan, perlindungan, dan belas kasih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orang tu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Gereja mesti menjadi tempat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 dihargai, dilindungi dan dihargai.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Dengan sedar, proaktif, dan seperti Kristus dalam jagaan kita, kita boleh 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ghormati Tuhan 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dengan menghormati orang tu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Kesimpula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8944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. Pendahuluan: 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Objektif</a:t>
            </a:r>
            <a:br>
              <a:rPr sz="36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Untuk meningkatkan kesedaran tentang penderaan </a:t>
            </a:r>
            <a:r>
              <a:rPr b="1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</a:t>
            </a: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, mengenali tanda-tanda, dan melengkapkan gereja untuk </a:t>
            </a:r>
            <a:r>
              <a:rPr b="1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jaga dan melindungi </a:t>
            </a:r>
            <a:r>
              <a:rPr b="0" lang="pt-BR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orang tua dalam gereja dan komuniti mereka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yat Kunci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Janganlah singkirkan aku dalam usia tua;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jangan tinggalkan aku ketika kekuatanku hilang.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azmur 71:9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Siapakah seorang warga emas yang telah banyak memberi kesan kepada kehidupan anda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Aktiviti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Calibri Light"/>
              </a:rPr>
              <a:t>Icebreaker</a:t>
            </a:r>
            <a:r>
              <a:rPr b="1" lang="en-US" sz="3600" spc="-1" strike="noStrike">
                <a:solidFill>
                  <a:srgbClr val="c00000"/>
                </a:solidFill>
                <a:latin typeface="Calibri Light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Mengapakah anda fikir penderaan orang tua sering diabaikan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II. Memahami Penderaan</a:t>
            </a:r>
            <a:br>
              <a:rPr sz="3600"/>
            </a:br>
            <a:r>
              <a:rPr b="1" lang="en-US" sz="3600" spc="-1" strike="noStrike">
                <a:solidFill>
                  <a:srgbClr val="f2f2f2"/>
                </a:solidFill>
                <a:latin typeface="Calibri Light"/>
              </a:rPr>
              <a:t>     Orang Tua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1. Apakah Penderaan Orang Tua?</a:t>
            </a: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760" y="217440"/>
            <a:ext cx="74581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400" spc="-1" strike="noStrike">
                <a:solidFill>
                  <a:srgbClr val="c00000"/>
                </a:solidFill>
                <a:latin typeface="Calibri Light"/>
              </a:rPr>
              <a:t>Penderaan orang tua ialah sebarang bentuk penganiayaan yang memudaratkan atau membahayakan orang tua, termasuk: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89800" y="2001240"/>
            <a:ext cx="72910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Fizikal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Memukul, menolak, sekatan yang tidak betul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Emosi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Penghinaan, ancaman, pengabai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Eksploitasi Kewangan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ecurian, penipuan, penyalahgunaan wang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gabaian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Gagal menyediakan keperluan asas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Penderaan Rohani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Pengasingan daripada gereja atau aktiviti berasaskan kepercayaan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5680" y="217440"/>
            <a:ext cx="7486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90000"/>
              </a:lnSpc>
              <a:buNone/>
            </a:pPr>
            <a:br>
              <a:rPr sz="3600"/>
            </a:br>
            <a:br>
              <a:rPr sz="3600"/>
            </a:br>
            <a:endParaRPr b="0" lang="pt-B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5680" y="2001240"/>
            <a:ext cx="995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andangan Alkitab tentang Menjaga Orang Tua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Imamat 19:32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“Bangkitlah berdiri di hadapan orang yang sudah beruban, hormatilah orang yang sudah tua” 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AVB)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1 Timotius 5:8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“Sekiranya seseorang tidak menjaga sanak saudaranya, apatah lagi seisi rumahnya sendiri, maka dia menyangkal iman” 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(NIV)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9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Yakobus 1:27</a:t>
            </a:r>
            <a:r>
              <a:rPr b="0" lang="en-US" sz="28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—Kita dipanggil untuk menjaga mereka yang lemah.</a:t>
            </a: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632320" y="1772280"/>
            <a:ext cx="7499520" cy="47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Bagaimana kita dapat melihat hati Tuhan untuk orang tua dalam Kitab Suci? 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56320" y="1772280"/>
            <a:ext cx="2221560" cy="47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c00000"/>
                </a:solidFill>
                <a:latin typeface="Calibri Light"/>
              </a:rPr>
              <a:t>Perbincangan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pt-B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  <Words>723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4T12:16:54Z</dcterms:created>
  <dc:creator>Erika Miike</dc:creator>
  <dc:description/>
  <dc:language>en-US</dc:language>
  <cp:lastModifiedBy>Jay Lawrence (MAUM)</cp:lastModifiedBy>
  <dcterms:modified xsi:type="dcterms:W3CDTF">2025-07-31T07:27:10Z</dcterms:modified>
  <cp:revision>36</cp:revision>
  <dc:subject/>
  <dc:title>God’s lo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Widescreen</vt:lpwstr>
  </property>
  <property fmtid="{D5CDD505-2E9C-101B-9397-08002B2CF9AE}" pid="4" name="Slides">
    <vt:r8>18</vt:r8>
  </property>
</Properties>
</file>